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1AD-9BC9-4F6A-A767-64F5EB75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F0D-CB98-43C3-B7C6-AE75E286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74C-6CCF-4273-AA84-3ED3F49A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460-821C-45E6-85E3-B4124282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1736-B324-47BE-A83D-0D8557C6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1EBD-C748-4365-8144-F10A72F6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8873-4A39-41A5-9FD5-B4E14077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8BAD-D6F4-4727-A36F-FC06217F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2458-73A5-4555-81F8-354CBAB6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0CBA-32C1-4F97-8FC9-D6C7A962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FC21-815D-4580-AB68-FA9C70AB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6D0-3971-4271-A15B-A8524261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1586-2566-4A72-90AB-E0ACFA39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F929-3BE3-4E8C-97AF-26E389AA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4D20-E0A7-4F62-A003-7319EFE7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96E8-AD28-4875-810D-345AE6F8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0177-222E-4B23-8062-03086D81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4EB-9B70-4078-9CF3-959ACB01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732A-FBD5-4265-BDFC-96E9D159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6FE-45DC-43ED-ACBB-75DD9810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9C1-5636-48FF-8421-BD96C5BC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AC3-F795-4146-AE30-90359FAD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C25-1795-40CD-AE7C-4B90585B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5D8-AAD9-4DC7-B6BB-72C55A74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BECA-859A-477E-A68B-79389D597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85FE-2F82-4DBD-A0D0-7DB88B040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llying And How It Affects Stud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40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avier C. Lit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7AD4-5273-46B6-883A-4D4D28D63EED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dnesday, July 29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e audience members will be able to tell where it takes place, who’s in it, what it’s about, and who’s around when it happe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ree act struct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very familiar for fi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: I will show how people bu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: I will show, how to prevent bully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I: Then then I will put it all together than Their will be a bully and the person being the bystander will do the right th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will explain why people bully and what people who see it do. Teachers, Students, And other people will see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ill be special because it will tell you how to stop bullying when you see it happ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will show it in middle scho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8:51:20Z</dcterms:created>
  <dc:creator/>
  <dc:description/>
  <dc:language>en-US</dc:language>
  <cp:lastModifiedBy>City School</cp:lastModifiedBy>
  <dcterms:modified xsi:type="dcterms:W3CDTF">2013-02-20T19:14:08Z</dcterms:modified>
  <cp:revision>39</cp:revision>
  <dc:subject/>
  <dc:title>The Pitch-Then-Plan Business Planning Template</dc:title>
</cp:coreProperties>
</file>